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B3BA9-A6DD-42B6-89F0-D9B07943A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5A3BE-FCE3-466C-973F-69E5D97DF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4BFC5-5424-4A86-BD1C-26194B6A8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60F0F-A3CE-46C6-ABF0-1ABD87E33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6D561-0969-4742-BDAC-9A2119D23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33506-FC96-45D2-8079-66B4F595C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82219-83FC-4569-A02A-4BD60FDBC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ECFC7-8C99-42D9-807D-189EAEAE1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83C51-4BE8-4097-BEFB-ACBDB262C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1C261-4FBF-4B6B-B8B7-A948DE4AC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069E6-5C68-4A24-B5C7-16645ECEF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974A9-CA2C-4729-8FB7-DFC16C320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66ff33"/>
            </a:gs>
            <a:gs pos="100000">
              <a:srgbClr val="66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78826-406B-4289-A572-20790B9F36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66ff33"/>
            </a:gs>
            <a:gs pos="100000">
              <a:srgbClr val="6600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You Taste??????</a:t>
            </a:r>
            <a:endParaRPr b="0" lang="en-US" sz="4400" spc="-1" strike="noStrike">
              <a:solidFill>
                <a:srgbClr val="000000"/>
              </a:solidFill>
              <a:latin typeface="Arial"/>
            </a:endParaRPr>
          </a:p>
        </p:txBody>
      </p:sp>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66ff33"/>
            </a:gs>
            <a:gs pos="100000">
              <a:srgbClr val="66006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es the number of taste buds you have make a difference in if you can distinguish vinegar, salt, sugar, sour</a:t>
            </a:r>
            <a:endParaRPr b="0" lang="en-US" sz="3200" spc="-1" strike="noStrike">
              <a:solidFill>
                <a:srgbClr val="000000"/>
              </a:solidFill>
              <a:latin typeface="Arial"/>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66ff33"/>
            </a:gs>
            <a:gs pos="100000">
              <a:srgbClr val="66006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chose this project because I have been curious about the human tongue and especially the taste buds, and why different people like different stuff</a:t>
            </a:r>
            <a:endParaRPr b="0" lang="en-US" sz="3200" spc="-1" strike="noStrike">
              <a:solidFill>
                <a:srgbClr val="000000"/>
              </a:solidFill>
              <a:latin typeface="Arial"/>
            </a:endParaRPr>
          </a:p>
        </p:txBody>
      </p:sp>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66ff33"/>
            </a:gs>
            <a:gs pos="100000">
              <a:srgbClr val="660066"/>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predict that the more taste buds you have the better you distinguish them or tell them apart because the more you have overall the more you have in each section.</a:t>
            </a:r>
            <a:endParaRPr b="0" lang="en-US" sz="3200" spc="-1" strike="noStrike">
              <a:solidFill>
                <a:srgbClr val="000000"/>
              </a:solidFill>
              <a:latin typeface="Arial"/>
            </a:endParaRPr>
          </a:p>
        </p:txBody>
      </p:sp>
    </p:spTree>
  </p:cSld>
  <p:transition spd="med">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66ff33"/>
            </a:gs>
            <a:gs pos="100000">
              <a:srgbClr val="66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dependent Variable:</a:t>
            </a:r>
            <a:r>
              <a:rPr b="0" lang="en-US" sz="3200" spc="-1" strike="noStrike">
                <a:solidFill>
                  <a:srgbClr val="000000"/>
                </a:solidFill>
                <a:latin typeface="Arial"/>
              </a:rPr>
              <a:t> The Number of Taste Bud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ependent Variable:</a:t>
            </a:r>
            <a:r>
              <a:rPr b="0" lang="en-US" sz="3200" spc="-1" strike="noStrike">
                <a:solidFill>
                  <a:srgbClr val="000000"/>
                </a:solidFill>
                <a:latin typeface="Arial"/>
              </a:rPr>
              <a:t> Whether or not it matter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ontrolled Variable:</a:t>
            </a:r>
            <a:r>
              <a:rPr b="0" lang="en-US" sz="3200" spc="-1" strike="noStrike">
                <a:solidFill>
                  <a:srgbClr val="000000"/>
                </a:solidFill>
                <a:latin typeface="Arial"/>
              </a:rPr>
              <a:t> Everything is constant and tested the same</a:t>
            </a:r>
            <a:endParaRPr b="0" lang="en-US" sz="3200" spc="-1" strike="noStrike">
              <a:solidFill>
                <a:srgbClr val="000000"/>
              </a:solidFill>
              <a:latin typeface="Arial"/>
            </a:endParaRPr>
          </a:p>
        </p:txBody>
      </p:sp>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66ff33"/>
            </a:gs>
            <a:gs pos="100000">
              <a:srgbClr val="66006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a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mon Head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ega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d Color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tton Swab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ps of Note Card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8th Grader</a:t>
            </a:r>
            <a:endParaRPr b="0" lang="en-US" sz="3200" spc="-1" strike="noStrike">
              <a:solidFill>
                <a:srgbClr val="000000"/>
              </a:solidFill>
              <a:latin typeface="Arial"/>
            </a:endParaRPr>
          </a:p>
        </p:txBody>
      </p:sp>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66ff33"/>
            </a:gs>
            <a:gs pos="100000">
              <a:srgbClr val="66006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3"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Gather all Material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et the Vinegar, Salt, Sugar, and Lemon Head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ather up the peopl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Test Number of taste buds to see how many they hav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ow to test how many taste bud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Using a cotton swab put some food coloring on to the tip of your tongu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Place a reinforcement ring on your tongu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Count the pink dots within the reinforcement ring. This may be easier with a magnifying glas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nk dots are your fungiform papillae. They don't take up the food coloring. These papillae are the tiny bumps on your tongue that house your taste buds. The more papillae you have, the more taste buds you have and the more sensitive to taste you are. On average, non-tasters have fewer than 15 papillae in that area, while super tasters have over 30.</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Repeat this process for the other peopl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Video tape this proces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Observe the result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Test for the Vinegar, Salt, Sugar, and Lemon Head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Observe Result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Judge Hypothesis </a:t>
            </a:r>
            <a:endParaRPr b="0" lang="en-US" sz="1800" spc="-1" strike="noStrike">
              <a:solidFill>
                <a:srgbClr val="000000"/>
              </a:solidFill>
              <a:latin typeface="Arial"/>
            </a:endParaRPr>
          </a:p>
        </p:txBody>
      </p:sp>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66ff33"/>
            </a:gs>
            <a:gs pos="100000">
              <a:srgbClr val="66006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graphicFrame>
        <p:nvGraphicFramePr>
          <p:cNvPr id="55" name=""/>
          <p:cNvGraphicFramePr/>
          <p:nvPr/>
        </p:nvGraphicFramePr>
        <p:xfrm>
          <a:off x="457200" y="1600200"/>
          <a:ext cx="8229600" cy="4533840"/>
        </p:xfrm>
        <a:graphic>
          <a:graphicData uri="http://schemas.openxmlformats.org/drawingml/2006/table">
            <a:tbl>
              <a:tblPr/>
              <a:tblGrid>
                <a:gridCol w="1690560"/>
                <a:gridCol w="1231920"/>
                <a:gridCol w="1230480"/>
                <a:gridCol w="1230120"/>
                <a:gridCol w="1525680"/>
                <a:gridCol w="1320840"/>
              </a:tblGrid>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Nam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Taste Bud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head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ucas Belo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Rachel Cart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 Bal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Kinley Farn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 Dro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Wyatt Johns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Powdered 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 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Brogan Jon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Corn Syru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War 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Abi Wilifor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anil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Zach Brashe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 Drop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8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Kash Farn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 Juic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8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Michael Hendrick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Tanner Stalling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Trey Wrenc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Trey Bagb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Trae Jon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Austin Mye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Aidan Crosb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h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Jed Dierks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 Cand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ayne Tomm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Vine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l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ug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Lemon Bal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66ff33"/>
            </a:gs>
            <a:gs pos="100000">
              <a:srgbClr val="660066"/>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Hypothesis was incorrect except for on a few people on all but three people because those three didn’t do a very good job guessing on the Vinegar and the Lemon Heads because sweet and salty are the first two things you taste.</a:t>
            </a:r>
            <a:endParaRPr b="0" lang="en-US" sz="3200" spc="-1" strike="noStrike">
              <a:solidFill>
                <a:srgbClr val="000000"/>
              </a:solidFill>
              <a:latin typeface="Arial"/>
            </a:endParaRPr>
          </a:p>
        </p:txBody>
      </p: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6:20:27Z</dcterms:created>
  <dc:creator>USD376</dc:creator>
  <dc:description/>
  <dc:language>en-US</dc:language>
  <cp:lastModifiedBy>USD376</cp:lastModifiedBy>
  <dcterms:modified xsi:type="dcterms:W3CDTF">2010-02-11T15:51:32Z</dcterms:modified>
  <cp:revision>3</cp:revision>
  <dc:subject/>
  <dc:title>Taste Buds</dc:title>
</cp:coreProperties>
</file>